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F6074-83D8-46BF-A27C-27EEEA922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7ADED-F3AE-4B1A-B8E0-F9074C213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C7DAE-1AC0-45B4-8C18-74DC03DF5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F24BB-5C97-4B26-8F98-A42C70142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BBD3E-EDE4-4974-AF63-F06158051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14245-C0A2-4994-A5B9-D3BEDA02E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43079-EB60-4C16-BB97-98F07EFC9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FFD99-F117-4A93-828B-A024BB557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CEA5B-1D4E-47C2-A553-C163058E4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25E03-0B49-4399-9CCD-CD84DB7B5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07D62-D164-4E89-BE6E-32DF692BE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3C71D-907D-402D-9BFB-E93CE8191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7AE12-2CDA-429F-9474-69D0423CDB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nal Assess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orate Knowledge Management Worksh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>
            <a:hlinkClick r:id="" action="ppaction://hlinkshowjump?jump=nex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art With What You’ve Already Writt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iew each of the documents you created in this worksh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ce you are happy with what you’ve written, identify some key words that reflect the cont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, edit your blog. Create a new entry, and, one at a time, copy and paste each document as a new blog p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key terms and key words for each post, and save your postings as your complete the edit of that p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80880" y="61722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8" name="">
            <a:hlinkClick r:id="" action="ppaction://hlinkshowjump?jump=previousslide"/>
          </p:cNvPr>
          <p:cNvSpPr/>
          <p:nvPr/>
        </p:nvSpPr>
        <p:spPr>
          <a:xfrm>
            <a:off x="693432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5500" fill="hold"/>
                                        <p:tgtEl>
                                          <p:spTgt spid="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to Writ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cribe a time when you learned a valuable new lesson or ski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ll about an important day in your care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cuss how you learned new information and sorted it all 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st some things that you wish you would have known years ag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04920" y="632448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52" name="">
            <a:hlinkClick r:id="" action="ppaction://hlinkshowjump?jump=nex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>
            <a:hlinkClick r:id="" action="ppaction://hlinkshowjump?jump=previousslide"/>
          </p:cNvPr>
          <p:cNvSpPr/>
          <p:nvPr/>
        </p:nvSpPr>
        <p:spPr>
          <a:xfrm>
            <a:off x="693432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26854" fill="hold"/>
                                        <p:tgtEl>
                                          <p:spTgt spid="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Most Important Thin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aring the information and knowledge learned by exper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aring the organization’s past in order to ensure our fu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ank you for participating in the organization’s Knowledge Management program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04920" y="632448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57" name="">
            <a:hlinkClick r:id="" action="ppaction://hlinkshowjump?jump=nex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>
            <a:hlinkClick r:id="" action="ppaction://hlinkshowjump?jump=previousslide"/>
          </p:cNvPr>
          <p:cNvSpPr/>
          <p:nvPr/>
        </p:nvSpPr>
        <p:spPr>
          <a:xfrm>
            <a:off x="693432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9366" fill="hold"/>
                                        <p:tgtEl>
                                          <p:spTgt spid="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ank you for your contribution to the organization’s future by documenting the past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838080" y="5410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61" name="">
            <a:hlinkClick r:id="" action="ppaction://hlinkshowjump?jump=previous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8069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6T18:41:44Z</dcterms:created>
  <dc:creator>Anne Brooker-Grogan</dc:creator>
  <dc:description/>
  <dc:language>en-US</dc:language>
  <cp:lastModifiedBy>Anne Brooker-Grogan</cp:lastModifiedBy>
  <dcterms:modified xsi:type="dcterms:W3CDTF">2010-02-26T18:46:03Z</dcterms:modified>
  <cp:revision>1</cp:revision>
  <dc:subject/>
  <dc:title>Final Assessment</dc:title>
</cp:coreProperties>
</file>